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56E-0D74-447E-AE33-D1CB52F4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72B-F359-4C0C-94CD-18DB0A37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0A2-298A-4644-AD2B-70DAF34F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A48-5E84-44D9-8627-C6BC6B0E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6E8-2D5D-4E1F-A042-BFA872B2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625-EE40-48D5-B267-BD60CB05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B10-DF8D-4870-8E40-3B4B7992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827-55D9-4F20-B610-4F132658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80A-FD94-4831-B03B-2E98D7E3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344-4F31-468A-AA8F-3734AEF1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5A0-77B1-4C17-BE48-368A5B52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D57-9666-4200-97AC-A37965C2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575B-10EB-4F6A-8177-E3997D540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iucn.org/ce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42472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 papel de la comunicación, educación, participación y concientización en la problemática del cambio climático. </a:t>
            </a: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a experiencia del CD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7161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ff"/>
                </a:solidFill>
                <a:latin typeface="Arial"/>
              </a:rPr>
              <a:t>Marta Andel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ff"/>
                </a:solidFill>
                <a:latin typeface="Arial"/>
              </a:rPr>
              <a:t>Punto Focal para Argentina UICN-C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Commission on Education and Communication"/>
          <p:cNvPicPr/>
          <p:nvPr/>
        </p:nvPicPr>
        <p:blipFill>
          <a:blip r:embed="rId1"/>
          <a:stretch/>
        </p:blipFill>
        <p:spPr>
          <a:xfrm>
            <a:off x="6804000" y="404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14004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ambio  climático no sólo es un problema técnico, sino una cuestión política, de intereses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y  de involucra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Incluir desde el inicio a CEPA, en los proyectos y estrategias nacionales destinadas a enfrentar los efectos del cambio climátic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Conocer a los a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Mayor Información y conocimiento no provoca necesariamente camb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ada sector requiere una estrategia espec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Nadie actúa si no está motivado, y nadie se motiva a menos que conozca de qué se trata la cuestión y pueda participar y decidir sobre el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ff"/>
                </a:solidFill>
                <a:latin typeface="Arial"/>
              </a:rPr>
              <a:t>Estrategias de  Biodiversidad  y Planes de Acción en la región, CEP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Involucrar actores cl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Percepciones de las personas sobre el asu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Promoviendo el conocimiento público para poner un problema en la agen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Identificar temas prioritarios y estratég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64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66ff"/>
                </a:solidFill>
                <a:latin typeface="Arial"/>
              </a:rPr>
              <a:t>Sinergias </a:t>
            </a:r>
            <a:br>
              <a:rPr sz="4000"/>
            </a:b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entre convenciones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040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onvención Marco de las Naciones Unidas sobre el Cambio Climát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onvenio sobre la Diversidad B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onvención de las Naciones Unidas de Lucha contra la Desertif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onvención de Rams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Procesos CEPA orientados a</a:t>
            </a: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ambios en las actitudes y prác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Aprendizaje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reatividad en las activida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ff"/>
                </a:solidFill>
                <a:latin typeface="Arial"/>
              </a:rPr>
              <a:t>Coordinación de esfuerzos entre sector público y priv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omplementariedad en las ac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reación  compromisos intersectori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Involucramiento de los distintos a actores sociales ( gobiernos, empresarios, industria, comunidades loc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Crear puentes entre la ciencia, la técnica, la política y la gente</a:t>
            </a:r>
            <a:br>
              <a:rPr sz="3200"/>
            </a:b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gracia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06600" y="2108160"/>
            <a:ext cx="613080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 rot="10800000">
            <a:off x="-3240" y="5567400"/>
            <a:ext cx="9150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ucn.org/ce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CEPA (comunication, education, participation, awarene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Estrategias diferenciadas para grupos diferencia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Complementaridad de ac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ambios en conocimientos, prácticas y comporta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Instrumentos técnicos, económicos y legal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Instrumentos sociales ( educación, información, capacitación, sensibiliz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ff"/>
                </a:solidFill>
                <a:latin typeface="Arial"/>
              </a:rPr>
              <a:t>CEPA(communication, education,  public awarene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onvención Ram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onvenio sobre Diversidad Biológica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Iniciativa mundial sobre CE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(UNESCO,UNEP,UICN-CEC,Ramsar,IU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Plan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ff"/>
                </a:solidFill>
                <a:latin typeface="Arial"/>
              </a:rPr>
              <a:t>CE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Instrumentos sociales para construir apoyo, informar, capacitar,  involucrar, fortalecer a distintos grupos so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ambios                Ac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4076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EPA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268280"/>
            <a:ext cx="581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Edu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apac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Estudios de opin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Grupos foc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Enc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Diá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Negoci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Tall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Más que comunicación..más que un video…más que un boletin, un talle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EPA, es un proceso que combina  componentes de educación y participación, con piezas comunicacionales generand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distintas estrategias, medios y mensajes para distintos grup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1471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0066ff"/>
                </a:solidFill>
                <a:latin typeface="Arial"/>
              </a:rPr>
              <a:t>Comunicación, educación, participación y concientizació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ff"/>
                </a:solidFill>
                <a:latin typeface="Arial"/>
              </a:rPr>
              <a:t>CEPA(communication, education,  public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ff"/>
                </a:solidFill>
                <a:latin typeface="Arial"/>
              </a:rPr>
              <a:t>CEPA(communication, education,  participation awar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400536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Instrumentos (tecnológicos, científicos, económicos, legales, político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                       </a:t>
            </a: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AMB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Instrumentos sociales ( educación, información, comunicación, capacitación,sensibiliz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284640"/>
            <a:ext cx="71280" cy="73080"/>
          </a:xfrm>
          <a:custGeom>
            <a:avLst/>
            <a:gdLst>
              <a:gd name="textAreaLeft" fmla="*/ 9360 w 71280"/>
              <a:gd name="textAreaRight" fmla="*/ 61920 w 71280"/>
              <a:gd name="textAreaTop" fmla="*/ 12600 h 73080"/>
              <a:gd name="textAreaBottom" fmla="*/ 52920 h 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5181969"/>
                <a:lnTo>
                  <a:pt x="21120" y="21598"/>
                </a:lnTo>
                <a:lnTo>
                  <a:pt x="21600" y="17280"/>
                </a:lnTo>
                <a:lnTo>
                  <a:pt x="21120" y="12958"/>
                </a:lnTo>
                <a:lnTo>
                  <a:pt x="21120" y="15118"/>
                </a:lnTo>
                <a:arcTo wR="21600" hR="7560" stAng="5618031" swAng="482453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2133720"/>
            <a:ext cx="1547640" cy="2232000"/>
          </a:xfrm>
          <a:custGeom>
            <a:avLst/>
            <a:gdLst>
              <a:gd name="textAreaLeft" fmla="*/ 207360 w 1547640"/>
              <a:gd name="textAreaRight" fmla="*/ 1340280 w 154764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5153"/>
                <a:lnTo>
                  <a:pt x="14557" y="21187"/>
                </a:lnTo>
                <a:lnTo>
                  <a:pt x="21600" y="17280"/>
                </a:lnTo>
                <a:lnTo>
                  <a:pt x="14557" y="12547"/>
                </a:lnTo>
                <a:lnTo>
                  <a:pt x="14557" y="14707"/>
                </a:lnTo>
                <a:arcTo wR="21600" hR="7560" stAng="8074847" swAng="2367719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6659280" y="2060640"/>
            <a:ext cx="1547640" cy="2232000"/>
          </a:xfrm>
          <a:custGeom>
            <a:avLst/>
            <a:gdLst>
              <a:gd name="textAreaLeft" fmla="*/ 207360 w 1547640"/>
              <a:gd name="textAreaRight" fmla="*/ 1340280 w 154764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5153"/>
                <a:lnTo>
                  <a:pt x="14557" y="21187"/>
                </a:lnTo>
                <a:lnTo>
                  <a:pt x="21600" y="17280"/>
                </a:lnTo>
                <a:lnTo>
                  <a:pt x="14557" y="12547"/>
                </a:lnTo>
                <a:lnTo>
                  <a:pt x="14557" y="14707"/>
                </a:lnTo>
                <a:arcTo wR="21600" hR="7560" stAng="8074847" swAng="2367719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7:26:23Z</dcterms:created>
  <dc:creator>Marta</dc:creator>
  <dc:description/>
  <dc:language>en-US</dc:language>
  <cp:lastModifiedBy>x</cp:lastModifiedBy>
  <dcterms:modified xsi:type="dcterms:W3CDTF">2005-03-30T21:55:17Z</dcterms:modified>
  <cp:revision>11</cp:revision>
  <dc:subject/>
  <dc:title>El papel de la comunicación, educación, participación y concientización en la problemática del cambio climático. La experiencia del CDB. </dc:title>
</cp:coreProperties>
</file>